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F698-395B-44F6-8F74-E455AAF1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25C4-799D-4CF7-9A4C-8A6B74B5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8272-ED3D-4D0C-9799-9E357C1A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E895-A1C5-4B87-A07A-A5F89C7B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F321-696E-438E-8142-7DF6023E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3CD6-0C9F-408A-8B3E-685DB43B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0F58-C830-482D-A83A-ABF539D0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158E-336C-4286-A6FE-486C00CA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FD2C-EBC0-4799-A4FB-02BD118B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CCF6-10A9-4441-9909-3C96232A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01A8-39FF-4980-B16C-B816E177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B70C-22F6-400D-B38A-238C89EA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9B7D-CE91-4485-A060-799B03B5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9735-01B1-4A7B-8A90-54A3B38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85EA-7546-4D67-BF8C-199DC55A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7EE1-F803-4600-ADE4-B9E09DC7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5806-DFA3-4EC7-BE4B-18D9CE87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92ED-F4F8-473F-A8F7-95134408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13F2-D30F-405E-B12B-AC8D9F4A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988C-99AA-4913-8D4A-6A20FA0A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B55C-2981-491F-8FF7-8741526E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A957-6AFB-4651-BF15-2CBCAABD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F3C7-270F-4E19-9BF5-C62774E5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C0E3-4CA2-46D6-A449-746637DC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4274-BFDE-4836-8821-048CC80468F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F799-2535-4A65-B187-0B08F4E097C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972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85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1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За Тебе всеки ч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Господ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как жадувам аз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изо бъ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-252360" y="14464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ебе се нужда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ного се нуждая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га благослови м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ю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15880"/>
            <a:ext cx="95774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ебе се нужда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ного се нуждая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га благослови м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ю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17510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На мене всеки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гово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 дава Твоят гл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Госпо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4464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ебе се нужда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ного се нуждая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га благослови м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ю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10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Със мене всеки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ко Си 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убят съблазнит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лата 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4464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ебе се нужда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ного се нуждая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га благослови м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ю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 Учи ме всеки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лята С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мен чрез благод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я изпъл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52360" y="14464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ебе се нужда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ного се нуждая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га благослови м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ю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. Бъди Ти всеки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чител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щеник, Цар и Сп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аз - син Тво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5-13T16:06:18Z</dcterms:modified>
  <cp:revision>119</cp:revision>
  <dc:subject/>
  <dc:title>Slide 1</dc:title>
</cp:coreProperties>
</file>